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84092"/>
        <c:axId val="32416482"/>
      </c:barChart>
      <c:catAx>
        <c:axId val="27684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16482"/>
        <c:crosses val="autoZero"/>
        <c:auto val="1"/>
        <c:lblAlgn val="ctr"/>
        <c:lblOffset val="100"/>
        <c:noMultiLvlLbl val="0"/>
      </c:catAx>
      <c:valAx>
        <c:axId val="32416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84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088-0160-4D7B-BE3E-E50DB583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479-A3D1-4B0C-9C2B-C39EF9CD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C31-A2F9-4354-A947-0DC3F6A2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5E3-A525-43AA-8E13-0C60E9AE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E41-289A-45A3-B2BD-ACC86665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641-8D60-46AB-B2B4-8DB84499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03E-6F13-4610-86DA-C9D0564C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367-3034-4AA7-8621-EC84A5BF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4D0-92AE-492B-B266-54C59480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AD2-74DC-4E3F-A756-F9001703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BD1-BAC8-4DAC-9B6F-A0EDD98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F4E-9247-4280-845A-6D2B9871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1C49B-4801-4B72-8553-A7F425C302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