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69564"/>
        <c:axId val="59740279"/>
      </c:barChart>
      <c:catAx>
        <c:axId val="883695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40279"/>
        <c:crosses val="autoZero"/>
        <c:auto val="1"/>
        <c:lblAlgn val="ctr"/>
        <c:lblOffset val="100"/>
        <c:noMultiLvlLbl val="0"/>
      </c:catAx>
      <c:valAx>
        <c:axId val="597402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695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B437-5CA2-400E-9E43-4FAEB183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EAF4-6356-47B6-A1A2-48C88626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13D-4120-41F6-9AEE-2D2450DD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3FB2-1220-41E3-B3AC-70AD2CCC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511C-2CFF-4E0B-8E0E-382A186A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52BE-618C-4342-97C2-A3FD6863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831-3FC0-48C3-B0EF-87AD4FC9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ACA8-499C-4F68-88E3-2A6DB778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D1B5-E8A1-4B56-A8F3-83CEA3CE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000C-0804-4ADB-9A18-0EE191CB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0329-2733-4615-B24C-188E329D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AE6D-9272-4485-841D-0A08ED36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F29FB-3829-4BB1-916E-467D4B74B8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